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69E-E5B5-46AD-9A2A-F9C4C833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C47A-7B3E-4DD5-9DCB-358DDE2B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AB5-4A5E-469B-A050-EE007855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878-6E01-4873-8C77-DEB0BBA4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2045-99B2-483F-ABFD-C28F7116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4B73-A616-41E6-889F-E94EE1A8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9A39-5DA0-4622-B37A-FCBC10E1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00F2-1769-478B-ACEE-6E37E9F2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0AB4-1F3E-4424-ABAB-63555E22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8759-1441-421A-959D-CFE90C9A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9C10-7E29-4B77-BF90-29C433DD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5D4-49B1-43A8-82FF-8E24F4CE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AC09-2DF0-450B-ACF5-9947DEAD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0D7D-5F40-4B4F-BA1D-901A2F44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96AC-A284-44F4-9D48-21DDDF8F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32CE-0191-45A0-B671-F4ADA9C7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485F-CFD0-474E-9581-A4CF7DEA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802-73A8-417D-ADC2-71F49D32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C89-4BC9-4A89-AE95-8408CA16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7E3-D96A-403F-A1D1-E837681D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270-1AD4-4CA7-9A9F-876A92FA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5EA-ABA2-4C8E-9EB0-B275EB1B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811-4DF0-46D4-B37F-9E68F8E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A86-F3D8-45C7-A14A-AF02063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6015-5482-476F-ABDC-372A0C39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DE66-66E9-4C39-BAB6-EB62089A6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04920" y="213372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, Ecosystem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Food We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172200" y="630864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Brooks/Cole Publishing Company / I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principle gases of dry air"/>
          <p:cNvPicPr/>
          <p:nvPr/>
        </p:nvPicPr>
        <p:blipFill>
          <a:blip r:embed="rId1"/>
          <a:stretch/>
        </p:blipFill>
        <p:spPr>
          <a:xfrm>
            <a:off x="380880" y="6094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05048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yers of the Earth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ter layer. Liquid, Ice,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rth’s crust and upper mantle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ssil fuels, minerals, soil chemi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iotic &amp; abiotic f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6172200" y="630864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2860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rth's majo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8195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7621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's Life–Suppor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7" descr="M04_05"/>
          <p:cNvPicPr/>
          <p:nvPr/>
        </p:nvPicPr>
        <p:blipFill>
          <a:blip r:embed="rId1"/>
          <a:stretch/>
        </p:blipFill>
        <p:spPr>
          <a:xfrm>
            <a:off x="2819520" y="1295280"/>
            <a:ext cx="519588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atmosphere"/>
          <p:cNvPicPr/>
          <p:nvPr/>
        </p:nvPicPr>
        <p:blipFill>
          <a:blip r:embed="rId1"/>
          <a:stretch/>
        </p:blipFill>
        <p:spPr>
          <a:xfrm>
            <a:off x="228600" y="703440"/>
            <a:ext cx="7943760" cy="54511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228600" y="685800"/>
            <a:ext cx="792468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04920" y="624852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What Sustains Life?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 From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–way flow of usable energy from su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feeding interaction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ing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al flow of matter between the nonliving environment &amp; living organisms (biogeochemical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Earth to hold its atmosphere gases;  causes downward movement of matter in nutrient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M04_06"/>
          <p:cNvPicPr/>
          <p:nvPr/>
        </p:nvPicPr>
        <p:blipFill>
          <a:blip r:embed="rId1"/>
          <a:stretch/>
        </p:blipFill>
        <p:spPr>
          <a:xfrm>
            <a:off x="2971800" y="1295280"/>
            <a:ext cx="4667400" cy="4629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nergy Flow &amp; Nutrient Cycli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fe on Earth depends upon one–way flow of high–quality energy from sun &amp; cycling of crucial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09480" y="1143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ultimate source of energy in most ecosystems is the s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6" descr="M04_07"/>
          <p:cNvPicPr/>
          <p:nvPr/>
        </p:nvPicPr>
        <p:blipFill>
          <a:blip r:embed="rId1"/>
          <a:stretch/>
        </p:blipFill>
        <p:spPr>
          <a:xfrm>
            <a:off x="2209680" y="1676520"/>
            <a:ext cx="6553440" cy="50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Nutrient Cycles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r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y atom, ion, or molecule an organism needs to live, grow, or reprodu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nutr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ed in relatively large am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, O, H, N, P, S, K, Ca, Mg, 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nutr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ed in relatively small amou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Na, Zn, Cu, C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ent cyc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= biogeochemical cycles) involve continual flow of nutrients from nonliving (air, water, soil, rock) to living organisms (biota) &amp; back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rient cycles driven directly or indirectly by solar radiation &amp; gr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cyc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ydrologic (water), carbon, oxygen, nitrogen, phosphorus and sulf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cosystem Concepts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rge regions characterized by a distinct climate &amp; specific life–forms, especially vegetation, adapted to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bi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e grassland, temperate deciduous forest, desert, tropical rain forest, tropical deciduous forest, tropical savannah, coniferous forest, tund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quatic life 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jor marine or freshwater portion of the bi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aquatic life z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es, streams, estuaries, coastlines, coral reefs, &amp; the deep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Vocabulary for Ecosystem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tic: non–living components. Ex: water, air,sun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tic: living components   Ex: plants, animals,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phic level- feeding level for an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What is Life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 of 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d of cells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karyotic or 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universal genetic code-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&amp; transform matter &amp; energy- used for for growth, survival, &amp;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 to changes (adap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jor components of aquatic ecosys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792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M04_10"/>
          <p:cNvPicPr/>
          <p:nvPr/>
        </p:nvPicPr>
        <p:blipFill>
          <a:blip r:embed="rId1"/>
          <a:stretch/>
        </p:blipFill>
        <p:spPr>
          <a:xfrm>
            <a:off x="1447920" y="1905120"/>
            <a:ext cx="5943600" cy="405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06668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jor components of terrestrial ecosys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371600" y="596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M04_11"/>
          <p:cNvPicPr/>
          <p:nvPr/>
        </p:nvPicPr>
        <p:blipFill>
          <a:blip r:embed="rId1"/>
          <a:stretch/>
        </p:blipFill>
        <p:spPr>
          <a:xfrm>
            <a:off x="990720" y="1905120"/>
            <a:ext cx="655308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Factors Limiting Popula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w of tole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bility of species to tolerate changes in their environment (physical or chemical factors).  Pollution, global warming, habitat loss are some concerns associated with th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ing fa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y environmental factor that reduces survival or reproduction within a popu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predation,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ing factor princ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o much or too little of any abiotic factor can limit or prevent growth of a population, regardless if all other factors are near optimum range of tole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oo much fertilizer will kill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5335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ange of Tole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09480" y="137160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survival, growth, &amp; reproduction of organisms is determined, in part, by maximum &amp; minimum tolerance limits for physical conditions such as temperat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M04_12"/>
          <p:cNvPicPr/>
          <p:nvPr/>
        </p:nvPicPr>
        <p:blipFill>
          <a:blip r:embed="rId1"/>
          <a:stretch/>
        </p:blipFill>
        <p:spPr>
          <a:xfrm>
            <a:off x="838080" y="2743200"/>
            <a:ext cx="6477120" cy="319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Key Players in Ecosystem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trophs/ produce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ir own food via photosynthesis (plants) or chemosynthesis (bacteria in thermal vents use hydrogen sulfide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) &amp; carbon diox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terotrophs/ 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n’t make their own food, feed on other organisms or their rem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herbivores, carnivores, decompos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5"/>
          <p:cNvSpPr/>
          <p:nvPr/>
        </p:nvSpPr>
        <p:spPr>
          <a:xfrm>
            <a:off x="5638680" y="29541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5638680" y="3394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200400" y="5076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3200400" y="55101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Key Energy Process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ynthesi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hlorophyll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stor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6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+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lar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6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spi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bic Respira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ergy releasing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6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 6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+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A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 Fermenta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releasing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by yeast and 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Categories of Consumer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=herbivores) feed directly on produc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=carnivores) feed on primary consum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tiary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eed only on carniv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niv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sumers that feed on both plants &amp; anim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ven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eed on dead organis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mposers (saprob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nsumers that complete the breakdown &amp; recycling of organic materials from the remains &amp; wastes of other organis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ritiv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eed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tri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artially decomposed organic matter, such as leaf litter &amp; animal du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Importance of Decompos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28600" y="6400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M04_13"/>
          <p:cNvPicPr/>
          <p:nvPr/>
        </p:nvPicPr>
        <p:blipFill>
          <a:blip r:embed="rId1"/>
          <a:stretch/>
        </p:blipFill>
        <p:spPr>
          <a:xfrm>
            <a:off x="609480" y="914400"/>
            <a:ext cx="8312400" cy="542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0492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ummary of Ecosystem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6400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M04_15"/>
          <p:cNvPicPr/>
          <p:nvPr/>
        </p:nvPicPr>
        <p:blipFill>
          <a:blip r:embed="rId1"/>
          <a:stretch/>
        </p:blipFill>
        <p:spPr>
          <a:xfrm>
            <a:off x="1676520" y="1147680"/>
            <a:ext cx="6476760" cy="544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6172200" y="6308640"/>
            <a:ext cx="2590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306440" y="304812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Ecology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of relationships between organisms &amp; thei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 of 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sphere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tic (living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abiotic factors (non-liv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syste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unity + non–living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pulations of different species in give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group of interacting individuals of same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 (individuals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any form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d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09480" y="11430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chains are a simple food path involving a sequence of organisms, each of which is the food for the n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M04_16"/>
          <p:cNvPicPr/>
          <p:nvPr/>
        </p:nvPicPr>
        <p:blipFill>
          <a:blip r:embed="rId1"/>
          <a:stretch/>
        </p:blipFill>
        <p:spPr>
          <a:xfrm>
            <a:off x="1447920" y="2133720"/>
            <a:ext cx="6553080" cy="43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ood Web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76240" y="9144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webs are multiple food chains that are interconnected.  More complex than food chai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2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95748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1109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cological Pyramid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the flow of energy through an eco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each trophic level has a certain amount of BIOMASS (dry weight of organic m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ical efficiency- amou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s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y transferred as biomass.  Usually 10% at each transf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chains and webs only have 4-5 trophic levels, because too little energy left to support top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nergy Pyram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89548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990720" y="1450800"/>
            <a:ext cx="2133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nature, ecological efficiency varies from 5% to 20% energy available between successive trophic levels (95% to 80% loss). About 10% efficiency is a general r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M04_19"/>
          <p:cNvPicPr/>
          <p:nvPr/>
        </p:nvPicPr>
        <p:blipFill>
          <a:blip r:embed="rId1"/>
          <a:stretch/>
        </p:blipFill>
        <p:spPr>
          <a:xfrm>
            <a:off x="3048120" y="1316160"/>
            <a:ext cx="5867280" cy="44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other Energy Pyram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3520" y="5867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990720" y="145080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nnual pyramid of energy flow (in kilocalories per square meter per year) for an aquatic ecosystem in Silver Springs, F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M04_20a"/>
          <p:cNvPicPr/>
          <p:nvPr/>
        </p:nvPicPr>
        <p:blipFill>
          <a:blip r:embed="rId1"/>
          <a:stretch/>
        </p:blipFill>
        <p:spPr>
          <a:xfrm>
            <a:off x="228600" y="2819520"/>
            <a:ext cx="8153280" cy="26114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3352680" y="4952880"/>
            <a:ext cx="321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More individuals can be supported at lower trophic levels. Less energy is l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mass Pyram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biomass_pyramid"/>
          <p:cNvPicPr/>
          <p:nvPr/>
        </p:nvPicPr>
        <p:blipFill>
          <a:blip r:embed="rId1"/>
          <a:stretch/>
        </p:blipFill>
        <p:spPr>
          <a:xfrm>
            <a:off x="0" y="2133720"/>
            <a:ext cx="8937720" cy="42973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30492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s the biomass at each trophic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yramid of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38080" y="1447920"/>
            <a:ext cx="76964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yramid of numbers displays the number of individua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each leve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981080" y="1143000"/>
            <a:ext cx="4724640" cy="228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2" descr="image: pyramid of numbers showing grass, vole, barn owl"/>
          <p:cNvPicPr/>
          <p:nvPr/>
        </p:nvPicPr>
        <p:blipFill>
          <a:blip r:embed="rId1"/>
          <a:stretch/>
        </p:blipFill>
        <p:spPr>
          <a:xfrm>
            <a:off x="2743200" y="2438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86" name="Oval 18"/>
          <p:cNvSpPr/>
          <p:nvPr/>
        </p:nvSpPr>
        <p:spPr>
          <a:xfrm>
            <a:off x="4800600" y="2514600"/>
            <a:ext cx="8380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5029200" y="342900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 v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20"/>
          <p:cNvSpPr/>
          <p:nvPr/>
        </p:nvSpPr>
        <p:spPr>
          <a:xfrm>
            <a:off x="5638680" y="4191120"/>
            <a:ext cx="152424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ss p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09480" y="-343080"/>
            <a:ext cx="7772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Primary Productivity of Ecosytem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oss primary produ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PP) is the rate at which an ecosystem's producers convert solar energy into chemical energy as bio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Net primary produ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PP) is the rate at which energy for use by consumers is stored in new bio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P = GPP – R [rate at which producers use biomas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0948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Primary Produ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99072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stimated annual net primary productivity of major biomes &amp; aquatic life zones, expressed as kilocalories per square meter per y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2860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. 4–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" descr="M04_24"/>
          <p:cNvPicPr/>
          <p:nvPr/>
        </p:nvPicPr>
        <p:blipFill>
          <a:blip r:embed="rId1"/>
          <a:stretch/>
        </p:blipFill>
        <p:spPr>
          <a:xfrm>
            <a:off x="1219320" y="2133720"/>
            <a:ext cx="6338880" cy="3593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85800" y="-343080"/>
            <a:ext cx="7772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How Do Ecologists Lear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ists learn about ecosystems through a combination of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762120" y="-343080"/>
            <a:ext cx="7772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Organisms (Individuals)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s are classified into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roups of organisms that resemble each other, and in cases of sexually reproducing organism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 potentially interbr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s of 5 to 100 million species, most are insects &amp; microorganisms; so far only about 1.8 million named; each species is the result of long evolutionary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d or native spe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pulation that exists in its natural habita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esticated or introduced spe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population introduced by humans (= non–native spec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26"/>
          <p:cNvSpPr/>
          <p:nvPr/>
        </p:nvSpPr>
        <p:spPr>
          <a:xfrm>
            <a:off x="53352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thods for Monitoring &amp;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28"/>
          <p:cNvSpPr/>
          <p:nvPr/>
        </p:nvSpPr>
        <p:spPr>
          <a:xfrm>
            <a:off x="228600" y="1143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ies are enabling scientists to collect field information more effectively across broad geographic sc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31" descr="M04_26a"/>
          <p:cNvPicPr/>
          <p:nvPr/>
        </p:nvPicPr>
        <p:blipFill>
          <a:blip r:embed="rId1"/>
          <a:stretch/>
        </p:blipFill>
        <p:spPr>
          <a:xfrm>
            <a:off x="5334120" y="1922400"/>
            <a:ext cx="3124080" cy="2497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32" descr="M04_26b"/>
          <p:cNvPicPr/>
          <p:nvPr/>
        </p:nvPicPr>
        <p:blipFill>
          <a:blip r:embed="rId2"/>
          <a:stretch/>
        </p:blipFill>
        <p:spPr>
          <a:xfrm>
            <a:off x="914400" y="3200400"/>
            <a:ext cx="3200400" cy="29098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33"/>
          <p:cNvSpPr/>
          <p:nvPr/>
        </p:nvSpPr>
        <p:spPr>
          <a:xfrm>
            <a:off x="3886200" y="495288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) Geographic Information Systems (GIS) provide the computer technology for organizing, storing, and analyzing complex map da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4"/>
          <p:cNvSpPr/>
          <p:nvPr/>
        </p:nvSpPr>
        <p:spPr>
          <a:xfrm>
            <a:off x="990720" y="2057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) Remote sensing involves use of sensors to collect information about a system from a d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09480" y="-343080"/>
            <a:ext cx="81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cosystem Services &amp; Sustainabilit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system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tural benefits that support life on the earth &amp; are essential to the quality of human life &amp; the functioning of the world's econom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&amp; moderate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ycle vital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energy &amp; miner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nish food, fiber, medicine, timber, &amp;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ate crops &amp; useful native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b, dilute, or detoxify pollu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opulations of pests &amp; disease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soil erosion &amp; prevent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iodiversity of genes &amp;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09480" y="-343080"/>
            <a:ext cx="81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cosystem Services &amp; Sustainabilit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y is biodiversity an important ecosystem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ch variety of organisms provides material benefits (food, raw materials, energy, &amp; medicine), ecosystem services (purification of air &amp; water, natural pest control…), &amp; aesthetic benef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are two principles of ecosystem sustain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natural ecosystems achieve sustainability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using renewable solar energy as the energy source; &am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recycling nutrients needed for survival, growth, &amp; re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09480" y="-343080"/>
            <a:ext cx="81536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cology &amp; Environmental Scie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y is an understanding of ecology essential for environmental sc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scientific basis for interdependence &amp; connectedness is essential for solving environmental problems &amp; ensuring sustainability of a high–quality life for humans &amp; other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Popula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group of individuals of the sam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nfish in a pond, white oak trees in a forest, people in a 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bi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place where a population usuall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iver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 natural populations individuals vary in their genetic make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lue eyes vs. green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Communiti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opulations of different species living together in a give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ological community is a complex interacting network of plants, animals and micro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dwood forest community, consisting of  populations of redwoods &amp; other trees, shrubs and herbaceous species, animals and micro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Ecosystem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o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mmunities &amp; the non–living parts of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cks, fish, and insect larvae living in/on a lake or p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05048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sphere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level consisting of air, water, soil, minerals, and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earth_1_apollo17_big"/>
          <p:cNvPicPr/>
          <p:nvPr/>
        </p:nvPicPr>
        <p:blipFill>
          <a:blip r:embed="rId1"/>
          <a:stretch/>
        </p:blipFill>
        <p:spPr>
          <a:xfrm>
            <a:off x="4419720" y="2743200"/>
            <a:ext cx="32274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mosp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n layer of gases (N, O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, Ar, etc) held close to the earth’s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oposp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tmosphere’s inner lay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itrogen &amp; Oxygen found he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weather occurs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s “greenhouse” gases: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&amp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atosp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yer above troposp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s ozone 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hich filters sun’s harmful UV. 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sop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ove the stra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rea where meteors burn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rmosphere (ionosphere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nnest gas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urora’s take place and space shuttle orb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yers of the Ear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8T17:29:55Z</dcterms:created>
  <dc:creator>Paul Rich</dc:creator>
  <dc:description/>
  <dc:language>en-US</dc:language>
  <cp:lastModifiedBy>Lyn Clarkson</cp:lastModifiedBy>
  <dcterms:modified xsi:type="dcterms:W3CDTF">2009-08-26T00:06:08Z</dcterms:modified>
  <cp:revision>237</cp:revision>
  <dc:subject/>
  <dc:title>Ecology, Ecosystems and Food Webs</dc:title>
</cp:coreProperties>
</file>